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1194-1F03-4DC5-8BCA-08A1A8B705D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B9D5-61C2-4B63-A8BF-A5E6041B054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6B9A-C046-4430-AE5B-315CA3C7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040C-452F-4A45-99FE-A14426D0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AD1C-0D07-45D2-A372-7C3544ED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5939-308F-470C-B2BB-55495C36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C0F2-54F5-4B28-B556-8D89317F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B061-6770-4613-91A6-84FEDC8D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C5C6-C154-4FEC-83B6-B3D87FAD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7716-8BFA-4CFC-A58B-57566FE3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CB67-223F-4C5A-A590-D35A1ADD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5C72-EF67-44FB-9BEF-3180C5CB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A939-3C46-48FC-84A2-BC445069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0A83-B825-47CA-8203-22A45010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6C77-6D5D-4313-B1D5-0E5F946411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7928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：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3141720"/>
          <a:ext cx="8377200" cy="2282760"/>
        </p:xfrm>
        <a:graphic>
          <a:graphicData uri="http://schemas.openxmlformats.org/drawingml/2006/table">
            <a:tbl>
              <a:tblPr/>
              <a:tblGrid>
                <a:gridCol w="2687400"/>
                <a:gridCol w="768600"/>
                <a:gridCol w="457200"/>
                <a:gridCol w="766440"/>
                <a:gridCol w="64800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14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51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和配套条件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</cp:lastModifiedBy>
  <dcterms:modified xsi:type="dcterms:W3CDTF">2015-11-17T02:13:28Z</dcterms:modified>
  <cp:revision>26</cp:revision>
  <dc:subject/>
  <dc:title>PowerPoint 演示文稿</dc:title>
</cp:coreProperties>
</file>