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8804-BEEA-4553-8BBE-B124A99FC1E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D7AE-7970-44F5-AC58-4417319BD36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FA22-7E53-45A1-8B88-EEA17841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73F5-9004-48F1-8C52-D995F486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FD0-9D06-4963-9A6B-01B243C4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5F70-2680-4EE3-839E-28741A6C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132-24C0-4D71-8A23-0E96B56E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94D1-4255-4A45-BFAE-5342B2F4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E88-674C-4EB2-9989-C3E816D0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1C9E-C32D-489B-8E28-02901110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973-7046-4409-87CF-EFB9B983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25F-CB2B-4DD3-8E80-871D8B22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1C33-C6EC-4C0F-8F50-BF85C4FB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7458-DC42-4764-9AAE-A9CBA5A1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E8AB-C009-458A-B576-93B95C3EF1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7928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：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3141720"/>
          <a:ext cx="8377200" cy="2282760"/>
        </p:xfrm>
        <a:graphic>
          <a:graphicData uri="http://schemas.openxmlformats.org/drawingml/2006/table">
            <a:tbl>
              <a:tblPr/>
              <a:tblGrid>
                <a:gridCol w="2687400"/>
                <a:gridCol w="768600"/>
                <a:gridCol w="457200"/>
                <a:gridCol w="766440"/>
                <a:gridCol w="64800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14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1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及配套条件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</cp:lastModifiedBy>
  <dcterms:modified xsi:type="dcterms:W3CDTF">2015-11-17T01:53:46Z</dcterms:modified>
  <cp:revision>26</cp:revision>
  <dc:subject/>
  <dc:title>PowerPoint 演示文稿</dc:title>
</cp:coreProperties>
</file>